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D07-0FDC-4CE4-9FCE-E78EDE62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401-1870-4C34-96F5-0D2390C3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550-A50C-4BB5-857C-700D4D2B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235-B301-41B8-8CA0-C9FFEE3E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B4A-E546-4146-8F09-4F2E2BB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EC9-51A5-4587-8E7B-F38CAEB7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09C-9860-4576-921D-D233658B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B90-6217-48EA-8A94-FA05718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E60-325E-4B9F-9F9B-FA2934A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858-4E98-4F18-B2C8-E6DC4B3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E28-D0D9-42D1-95DA-371498D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55A-6D14-454B-BE2D-1A6D8E4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0094-4E83-4255-A59D-9289ECD26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pskelly</cp:lastModifiedBy>
  <cp:lastPrinted>2001-01-31T16:21:13Z</cp:lastPrinted>
  <dcterms:modified xsi:type="dcterms:W3CDTF">2008-01-30T19:25:38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